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E7A5-DF7A-4030-B87D-F2D2D6DA2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5A0-F1AE-42BD-B19A-C8E02201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2BB-2CEA-4272-B310-59D58D83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280-44FE-4444-945B-D2C40BD2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FB6-B9F5-48BC-A23C-8045489E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053-8ACA-4ADD-94DE-D1C11FAC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A54-0AEB-45F9-9FD2-12E02D6F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FEF1-339F-40E7-BDD5-075764D9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35E-284A-4CD7-A33C-58EC06E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8F1-E5A3-4002-ADD8-A198CB1A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4D2-CCE3-475D-A113-66C54ED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E71-04F3-4480-BC8F-3290DA7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CCF-A790-4CAA-AB63-300534D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5B5-93AE-4235-AB43-9CD4FD8C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D43-7049-42CC-BCDD-4F4EF293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                                                                         Me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5Z</dcterms:modified>
  <cp:revision>105</cp:revision>
  <dc:subject/>
  <dc:title>Profile</dc:title>
</cp:coreProperties>
</file>